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32909"/>
        <c:axId val="67748828"/>
      </c:barChart>
      <c:catAx>
        <c:axId val="65232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48828"/>
        <c:crosses val="autoZero"/>
        <c:auto val="1"/>
        <c:lblAlgn val="ctr"/>
        <c:lblOffset val="100"/>
        <c:noMultiLvlLbl val="0"/>
      </c:catAx>
      <c:valAx>
        <c:axId val="67748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32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CDD-4E55-4B8A-A67E-4280A437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ADE-8A8F-4AC0-A04C-800E27A4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BAB-4078-4911-A58A-3DF519AE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B8D-BB30-4341-9468-B3FADEC4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513-81C3-4F79-8715-D63A9A36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591-0F09-4AAE-A5CA-B8F98303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484-5C62-4374-9DEA-716E7FA6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C96-68DA-41CA-B875-58361B31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36C-5574-43BC-BFA2-28FA3AB0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F46-200A-4C46-8A12-8D4CA892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4C1-70D8-4C91-9A0B-28257D0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BC2-7450-43D7-9CC3-55B6D5BE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B0B57-225E-4DD9-88C4-6780E85D89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