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85207"/>
        <c:axId val="46382418"/>
      </c:barChart>
      <c:catAx>
        <c:axId val="12385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82418"/>
        <c:crosses val="autoZero"/>
        <c:auto val="1"/>
        <c:lblAlgn val="ctr"/>
        <c:lblOffset val="100"/>
        <c:noMultiLvlLbl val="0"/>
      </c:catAx>
      <c:valAx>
        <c:axId val="46382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85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0D5-B4F2-4708-9C81-D16BEF36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3A7-5300-4E5A-9004-CF5F16F4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FCA-6AC3-49A1-A704-FEFBA5E6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DA4-5013-4A4E-84DA-317EAA11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F24-05B0-4812-B8D8-87F96512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C9D-0F11-4D01-91BA-8FFCF7E5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857-670B-443E-A89E-643D5A58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08B-B41E-467F-B5B0-68231E99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DB3-C11C-4DC0-A60C-715C8CE8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39C-1921-4134-9D42-46C80EA3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CCB-ED31-4669-A36F-85B8262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150-1E69-4809-AAA2-79D25369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CF344-FAC6-4D4F-A4FC-6136855EEF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