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60327"/>
        <c:axId val="65183827"/>
      </c:barChart>
      <c:catAx>
        <c:axId val="40260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3827"/>
        <c:crosses val="autoZero"/>
        <c:auto val="1"/>
        <c:lblAlgn val="ctr"/>
        <c:lblOffset val="100"/>
        <c:noMultiLvlLbl val="0"/>
      </c:catAx>
      <c:valAx>
        <c:axId val="65183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0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4D4-1FA5-4995-89E3-41744711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81D-CF71-4873-BADF-F14C329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142-32E3-48BF-B2BD-75C2658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777-42C3-4221-88E1-B7189558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1C3-979F-4FCC-B090-644428DF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537-1AF9-469A-A6EC-7C5CC2E5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723-FBAB-4EC9-AAE1-8A4C94B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ECC-47B6-4C6F-88BF-97E9C39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29B-566A-49F6-84E1-6A459E94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A75-1C14-451A-8E88-6B7CC3C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066-7010-4758-8FF1-9C6BAA1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F6D-82DB-474A-8DCA-E0816C1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C433F-0100-47CA-B1E9-6049D7F4C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