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33719"/>
        <c:axId val="58877899"/>
      </c:barChart>
      <c:catAx>
        <c:axId val="89133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77899"/>
        <c:crosses val="autoZero"/>
        <c:auto val="1"/>
        <c:lblAlgn val="ctr"/>
        <c:lblOffset val="100"/>
        <c:noMultiLvlLbl val="0"/>
      </c:catAx>
      <c:valAx>
        <c:axId val="58877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3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AED-F719-4BC6-8C2A-C48D520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AA9-ED95-484F-9435-9E023391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00-3F62-4A92-8186-7F5E79E5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C88-3B31-4FAE-B568-B1EF1A3D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A62-BF88-4234-AF22-2BA72D9D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B8A-97B6-4631-B915-42F0776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547-5588-4970-A9FE-3BEB469E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4DB-2CA7-4E14-858D-FE7E5DF9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06C-F323-4991-B4E6-5155BB4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1EB-CFA3-4B45-BCEA-37A05AB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7AC-8982-4EC2-9A32-AA5F602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F09-EEA6-4E0A-B070-6B1587C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05EFD-762F-4705-BC16-C0A5850EC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