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485253"/>
        <c:axId val="3758515"/>
      </c:barChart>
      <c:catAx>
        <c:axId val="22485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58515"/>
        <c:crosses val="autoZero"/>
        <c:auto val="1"/>
        <c:lblAlgn val="ctr"/>
        <c:lblOffset val="100"/>
        <c:noMultiLvlLbl val="0"/>
      </c:catAx>
      <c:valAx>
        <c:axId val="3758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85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2ED-3362-46EC-8FBC-4BB52E070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3C0-EB7A-4870-A7E7-7F60C302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CA73-9582-4D04-9293-C6400E415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4156-00DB-406A-96B3-FB3C48B4E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7EE-2E49-429B-85F1-090AEFE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0C3-C4BB-4FA1-8A79-E5F344FF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F7B-E6C8-49C4-BC58-A0541491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83CE-9F11-4560-9C2A-5A0A8EFF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E0CA-71EB-4744-B0D3-89EB847DB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C07-1A89-4E61-8EFE-F7977F8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1B62-8FF5-4226-93AB-CB564048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98BB-B402-45B6-9377-22A1E404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7FBC0-5862-4AEA-8EED-2327914132E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