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6845"/>
        <c:axId val="47216742"/>
      </c:barChart>
      <c:catAx>
        <c:axId val="9736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16742"/>
        <c:crosses val="autoZero"/>
        <c:auto val="1"/>
        <c:lblAlgn val="ctr"/>
        <c:lblOffset val="100"/>
        <c:noMultiLvlLbl val="0"/>
      </c:catAx>
      <c:valAx>
        <c:axId val="47216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6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F2B-1977-4DDF-A207-E5AEA578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5D1-BCA6-4B22-9FE3-5D1F0A12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B15-B339-41B5-9681-E1D0E492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3230-30A0-4709-8034-5868FF73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3DA-71AD-49F5-B59A-9AA81689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912-F918-458E-8064-760758B1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1ABE-E812-4320-B892-27F05FAA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7450-A14C-414C-8EE3-9BB4B776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8B70-4984-4555-B767-1D3C1F84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E58-38A5-4655-B584-B8B0CDF7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E26-CD45-4163-9AAA-B91CD46A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479-5A5E-4483-A409-8E3AE6B2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8E841-37BB-4725-A122-4EA774AF85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