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756966"/>
        <c:axId val="41687622"/>
      </c:barChart>
      <c:catAx>
        <c:axId val="767569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87622"/>
        <c:crosses val="autoZero"/>
        <c:auto val="1"/>
        <c:lblAlgn val="ctr"/>
        <c:lblOffset val="100"/>
        <c:noMultiLvlLbl val="0"/>
      </c:catAx>
      <c:valAx>
        <c:axId val="416876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569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C1EF-BCFB-4F81-BCDE-177F6876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35DE-997A-4402-B72D-BA228AE0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AE7D-D391-417D-801E-C78C0103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8778-A441-426F-93E3-53556358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6658-3F80-4EAF-B6D3-CDBFF7C7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CB0D-9D25-4DD0-8027-88CF3E45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15F8-F754-4C36-9B73-6ADF41D2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FCEE-0913-455A-97E5-C7FEF7E5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1F82-9D48-445E-94CF-8E879FAF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896E-4BC1-401F-A018-BB7232F1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1695-F541-405F-A300-1F09C0E2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F4DF-FEEE-42EC-94C9-C6EC3525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1A51B-580A-4048-B196-B9A67392B3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