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14018"/>
        <c:axId val="22346023"/>
      </c:barChart>
      <c:catAx>
        <c:axId val="44614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46023"/>
        <c:crosses val="autoZero"/>
        <c:auto val="1"/>
        <c:lblAlgn val="ctr"/>
        <c:lblOffset val="100"/>
        <c:noMultiLvlLbl val="0"/>
      </c:catAx>
      <c:valAx>
        <c:axId val="22346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14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218-C1CD-4BC8-86AC-434B4F5C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332-1ADC-4E2C-92AC-400D6222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B28-0030-443D-82A0-4FC10307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89F-7D48-4651-AC82-448A4433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B6F-DA8B-49D9-831C-F522796B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139-5AEA-4917-BFC0-A00C7C27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9F4-C6C7-435D-91CC-5E0CBBC7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0FC-DE35-47C4-968A-77CB666F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863-92AF-4C43-8925-B47D0DB7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B2D-B0D6-46EE-BC3F-AE1E671C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84D-49FA-4D89-A07F-E4453D87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A33-EF3C-443A-894A-6BDED36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2F158-CF33-49F3-88B3-E7B19DA09A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