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337094"/>
        <c:axId val="34251957"/>
      </c:barChart>
      <c:catAx>
        <c:axId val="443370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51957"/>
        <c:crosses val="autoZero"/>
        <c:auto val="1"/>
        <c:lblAlgn val="ctr"/>
        <c:lblOffset val="100"/>
        <c:noMultiLvlLbl val="0"/>
      </c:catAx>
      <c:valAx>
        <c:axId val="34251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370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1F15-D44A-4F76-963F-C82BBD48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7C6C-7D99-4419-B5B4-C06692B1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CE17-D84C-4B0B-9EB5-10EE9C6A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DB8B-3214-4D96-8BCA-9AF97B6E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F32C-F724-4CA2-A70F-7D56C087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6C63-092B-4409-A107-48B33756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6CF-0E46-464F-A3DE-181629F3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9E29-A6E1-4393-BA52-F1A1D4C8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127F-40B4-492D-9614-12FF7193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3D7-F029-4A51-9377-6C6DA9EA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064A-C5D6-439F-B538-2BB982BC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21D2-9D88-478B-8D41-F1D0F6E1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927B4-EA30-4DA1-B515-4AF1B991CF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