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32877"/>
        <c:axId val="61109356"/>
      </c:barChart>
      <c:catAx>
        <c:axId val="55932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09356"/>
        <c:crosses val="autoZero"/>
        <c:auto val="1"/>
        <c:lblAlgn val="ctr"/>
        <c:lblOffset val="100"/>
        <c:noMultiLvlLbl val="0"/>
      </c:catAx>
      <c:valAx>
        <c:axId val="61109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32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C16-434B-4630-A1DE-D9E5B0E4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08D-23C7-4DF2-8535-4DD34030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0FA-8C74-49A3-B18D-542AD3AB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F01C-644B-4D92-B0D1-9FE91891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0F8-B1DE-4707-8E5B-6F649494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0BB-7D63-4571-9E63-40AD8624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BDC-C53E-44D8-B770-C2D46205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37D-1AA1-41C6-9FF5-13FCC1D1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ACE-A224-417F-B717-CF1BECD9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E59-09B3-4FD1-97C3-E51A7307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416-7676-4770-9ADF-808B34E2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B86-2279-492B-AD38-DDBD1A2E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2831C-FFA0-4E2C-B9DD-5AA6E9D8AB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