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36547"/>
        <c:axId val="64491928"/>
      </c:barChart>
      <c:catAx>
        <c:axId val="67236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91928"/>
        <c:crosses val="autoZero"/>
        <c:auto val="1"/>
        <c:lblAlgn val="ctr"/>
        <c:lblOffset val="100"/>
        <c:noMultiLvlLbl val="0"/>
      </c:catAx>
      <c:valAx>
        <c:axId val="64491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36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DEA-BC61-4751-8E3F-D76CFA99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238-FE81-46C7-BD1C-009F0FED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DFE-F489-44FC-866F-02138450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8BC-28FA-45E4-97DF-6A6A3995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0C8-7B4C-4E18-B4FF-049609B2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696-F293-46F2-9D9C-E56E6B7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BB8-2370-497E-8B57-C5C24110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BC7-B1A5-4A02-AD9E-8184F410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59A-2E72-4857-A863-D7B51C45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5479-CF72-46FD-8680-689C542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30A-FDC0-41B5-8D39-F757B38D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D11-38FE-43F8-A5C4-377AB6C6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DA5C0-819D-4F16-9549-5565E76EC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