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26961"/>
        <c:axId val="60420799"/>
      </c:barChart>
      <c:catAx>
        <c:axId val="77226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20799"/>
        <c:crosses val="autoZero"/>
        <c:auto val="1"/>
        <c:lblAlgn val="ctr"/>
        <c:lblOffset val="100"/>
        <c:noMultiLvlLbl val="0"/>
      </c:catAx>
      <c:valAx>
        <c:axId val="60420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26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8F1-58A3-41DA-8425-1F93B412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366-49D3-4176-83FD-98192FAD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7985-0411-4FF8-ACF0-BC490A65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CE6-3B2A-4B14-B724-1698D7D4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3F2-29B1-4A53-AE42-B59A1C26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9F0-F4DC-4660-B221-66E821B9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F68-41FA-4044-B29A-0A6BE74D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996-0F62-46EE-BAD2-D2D93968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8DC3-512E-43F8-8116-47153ED3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CCB-247C-4E4B-A91C-264209FB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FF3-E6B3-4491-AEFE-E6302B42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F16-234D-4DAD-AC64-E83E955F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4C181-F249-405E-B875-1A804B0EA2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