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41258"/>
        <c:axId val="70794898"/>
      </c:barChart>
      <c:catAx>
        <c:axId val="16341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94898"/>
        <c:crosses val="autoZero"/>
        <c:auto val="1"/>
        <c:lblAlgn val="ctr"/>
        <c:lblOffset val="100"/>
        <c:noMultiLvlLbl val="0"/>
      </c:catAx>
      <c:valAx>
        <c:axId val="70794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41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D77-8D46-425A-93B5-F885EAF7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BB5-8CB9-4231-AB32-1C39B5BF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B99-5216-4714-A62F-398F6CF7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D72-A2FF-409C-9691-06764870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906-32E0-48C5-969C-22069414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3C6-5BD7-4D92-ABFC-81579BDA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D51-93B1-4415-9C8B-96C36BA8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E70-7CE0-4133-A2C3-F3BF32A2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B55-C550-4394-92CE-CFBD56B6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ADD-C9A8-4374-B580-37B1401A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A93-1A2B-4F5F-9FDF-B0196938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A08-7A96-44D9-B2C1-D3ADCDDC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F0125-1F94-4576-A94E-C425BC393D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