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239675"/>
        <c:axId val="77740555"/>
      </c:barChart>
      <c:catAx>
        <c:axId val="602396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740555"/>
        <c:crosses val="autoZero"/>
        <c:auto val="1"/>
        <c:lblAlgn val="ctr"/>
        <c:lblOffset val="100"/>
        <c:noMultiLvlLbl val="0"/>
      </c:catAx>
      <c:valAx>
        <c:axId val="777405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2396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54FC-B0C0-4FA0-9EA8-1F30E1226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A7CD-6E11-4DA1-8834-E8E6FEC2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2F94-C2E1-46F9-9B64-78EA91688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F2AE-AD69-41DB-9334-E8C840796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D4F9-64E3-4000-9388-C10FEC5C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D04D-0DF9-4534-A1F8-4F31D70D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2289-E30D-4D7A-99F4-899FF41A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E953-9F04-4A87-AD01-2E696B47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EF0C-666E-407E-93E4-995BCEC3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BF44-BD3D-4972-9D11-195F7A9D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5285-6535-4175-B602-035C6811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CF9E-3662-47C4-8EC6-5430A6D4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D6484-7167-4B5D-87CE-14B2AEDC3F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