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13625"/>
        <c:axId val="27990241"/>
      </c:barChart>
      <c:catAx>
        <c:axId val="73213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90241"/>
        <c:crosses val="autoZero"/>
        <c:auto val="1"/>
        <c:lblAlgn val="ctr"/>
        <c:lblOffset val="100"/>
        <c:noMultiLvlLbl val="0"/>
      </c:catAx>
      <c:valAx>
        <c:axId val="27990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13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202-D996-49DD-8159-A8899BBD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A95-48A8-4D10-8409-32564B2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964-E162-4FEC-998F-B5D1DD13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92F-AE16-48EE-8A76-040BE3F8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610-FE36-4931-AD6E-D0BFD937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C0F-5A68-46DA-97FF-B4358E09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1CA-CD51-4842-A49E-E818950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997-5AD0-4B8F-AE0C-B2F78B45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443-35C1-4604-9479-9C0C8FDE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11E-9152-4418-A4D0-91A06756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312-7501-475D-BBDE-EBD6CDE4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A6E-C8CF-49F9-A282-A30B00BD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81E0E-3AFD-4024-8381-5BA4F2A92B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