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3768"/>
        <c:axId val="42041816"/>
      </c:barChart>
      <c:catAx>
        <c:axId val="19853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41816"/>
        <c:crosses val="autoZero"/>
        <c:auto val="1"/>
        <c:lblAlgn val="ctr"/>
        <c:lblOffset val="100"/>
        <c:noMultiLvlLbl val="0"/>
      </c:catAx>
      <c:valAx>
        <c:axId val="42041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3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4F6-2B0D-4E95-9F1F-0FF3C412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CC4-9009-4042-83EC-251CAD0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BFB-0560-4A50-8808-6BE5B6C1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55B-77B9-4F5B-AE76-F553E4CB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C96-231F-4336-A660-CE36D4A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6ED-D421-4BF9-B88D-A4126F83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D9D-9EC1-4460-959D-EF9F254C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921-50E6-4CF6-A681-FEA3113F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30F-7EEA-401A-9FCD-2A58782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983-54EB-4747-B157-8AABF1C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E08-7ECF-41CB-B1FD-0261DE4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033-B75B-4EE8-96C1-300ABB1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B0DFB-7F9A-4AA8-86AC-CED33CFC2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