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25586"/>
        <c:axId val="33984671"/>
      </c:barChart>
      <c:catAx>
        <c:axId val="86925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84671"/>
        <c:crosses val="autoZero"/>
        <c:auto val="1"/>
        <c:lblAlgn val="ctr"/>
        <c:lblOffset val="100"/>
        <c:noMultiLvlLbl val="0"/>
      </c:catAx>
      <c:valAx>
        <c:axId val="33984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25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4A9-3FD5-465F-8435-B695FB86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633-37E7-4977-B19E-940C70D2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EFF7-9C9A-4260-9560-9E683368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5FE-5B42-4C62-A960-F087763E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A08E-1F11-4149-85C5-D8427DAD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903-28C7-44CB-BBD2-E82781CB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577-0EA1-42A1-8189-7318E4E2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A7A2-901D-4801-9446-6F3BBE83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C78-FB2E-40D7-8675-22769830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48F-8F6E-482C-AB48-0A72346A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6FC-6FEB-487F-91D3-CFFADE3F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7522-BEAD-4529-BAE0-BAAEBE51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E7A37-FFF4-4B38-AEFD-66542E3F15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